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351-D776-44E5-89C5-846541BC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678-A7D3-44E8-9FD8-64FB51C1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B3293-FD9A-45E5-B093-A76896B3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DBB63-0911-4F9A-BD7C-2DD3EE6D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4F8D2-F605-48D8-AC75-8AF1D9AF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D4B71-C218-43BB-A3BD-B4ED7FFB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421A5-4FAD-43E2-8CBC-DC9D1CDC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05A24-D37A-4AE4-8E9C-F47F7FB7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A969C-8B3D-4119-9DD3-F6E87BC1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D2B17-2192-4371-A2B9-DE540706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9D7E0-40EC-48B7-B916-DD8ADB9E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F1BAE-BE2C-496C-8896-8BD05861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9515-251F-4074-BFBC-A547BEF1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F0ADA-6581-4B09-BA36-647DDD95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4EE2F-2E1C-4AEE-9121-0AFBE397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C307E-8C66-4CBD-945C-33529E41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697FD-C950-4E7D-B3C6-D79B817A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DF19B-1896-4271-B382-D8ABEFA8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A93B7-8596-4B2F-A46B-8D585229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E6927-6BCC-463E-A899-0BDC9AC2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7E3FC-47C0-409B-B3B7-674E50FF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BCAAD-DCCA-432B-8C94-E7406DE4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1E015-65B1-458C-A453-C7105F7A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29F8-A07E-4DBC-9AA0-C23BF037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CDF7B-0ED6-418E-9AD0-0B7AC36C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57EE6-47AA-400F-B14E-4CA303D3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AA5EE-6B6A-4187-8D28-CC828415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1E91F-0FC2-42D8-87F5-8A6C01BC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8A0A4-576F-44DC-A205-4678F014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9AAF6-0B73-413C-B94A-9427D966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1DBD6-742C-4DF0-B8F8-2730B852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40B97-EBEA-401F-B326-80119539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01D61-2815-45D7-AE7F-53098AE5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EB88D-BF0B-442E-A515-06C0982A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83F1-3C9A-4D68-89DF-BAC7819E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F889A-5F05-43FD-B575-9598A6C6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EA5E8-B494-4AE4-98C1-5A7C5AA1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10330-EA2F-4D39-99A6-55D7DA1E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22C07-6BF1-4089-B9EE-F6EA54BD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E76DA-B46C-4BF9-9D64-60984483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DAABD-DBB4-46AE-B17C-CB5BF2DA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85542-9044-4B55-93AD-2474327B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05788-2220-4C18-902C-C30477C9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45466-E748-4078-B3FB-57045D90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A5222-1BB8-4089-AF9D-07002AE3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B974-3D8A-4A55-91D7-16390504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BC31F-56D9-4564-9AD9-FDA4A32F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5AC59-73A6-46E1-97E1-FBF17E0E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6426C-2535-4E0C-874F-8D3D4E12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209A4-9F48-4F02-89B4-649FA4C7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E7AA9-A935-4DA9-9DD6-3751541C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7C704-E0DD-415B-A057-B7D493ED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65B7D5-6F4B-4112-8186-F271952C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87D70-0E1B-4EB2-A3F2-ECA0BBC7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70FCB9-65AF-4FE6-BF03-B7D2F799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C82020-AE63-4AB3-9F96-CC9F832D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CAD7-B70A-4202-8921-5A4D6BC3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824E5-51F8-4C39-A6E4-37061C7D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8B983-14F9-499C-BED6-F7EF0F6A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6EAA9-93C0-4422-B07C-E7B9DD99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ADEFB-9655-499D-B5F3-246E1EC3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96F2A-35AA-44AD-AC7D-7E87C7FA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66181-BDF5-4DB9-A349-2EB09B3D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1E12B-C161-4ADB-8096-FA9A5BE4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C291-57E1-4BF0-A850-E281F1B1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D001-72EF-4984-BDEB-4C020597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2F85-91C4-4EF1-8C09-69F538E4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996B-C3DA-41BC-AA42-10A01A54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DA1-BBA7-4670-8A9E-41A2BF36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E889-51C0-4894-AC90-CDEAE29A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C663-9795-4945-A3FB-0BC5CC7A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E4F3-94E0-4F01-9E4A-514091F0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FB0E-3B25-4DAD-BEED-69B3030F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3D08-3174-48B3-A36E-4B6779D5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AE208-8066-4CB3-A4FC-2BF7C652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89A8A-1DC1-42EE-83B3-A72D2AFB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10E4B-A0C9-49EF-BE86-1A721B8A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54A26-13C6-4C4E-AFE5-70784359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2F0DC-8B6B-4449-B4B3-3028C41C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6F7-24F7-4566-B42D-898BF7BF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3BDD0-1937-4761-BB64-5653A2A9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85405-1C46-41F0-9E54-FEF90816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95929-2023-41BC-A5C1-55194D14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DDDA9-FD47-4075-950A-AD62331B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CE9CF-ACA0-44BC-9BEA-3D5400AE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86599-15C6-4ECA-89A2-3680B012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E5E9B-062F-40DA-A682-23AEB6C0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57A66-5FD3-4FE6-8D9E-0B8D6DB2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E1BB9-877E-4C46-8D4F-865C23C1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63CAF-9136-4807-85AC-7164D3F1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D8F0-014D-4002-86D2-0E019707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A9848-94DF-494C-AFF7-491739CF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07EF7-6CCF-4848-B87C-CFEA4B3F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2DD59-92CC-4A6E-9280-9C49E089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FF737-A805-4386-AD77-1D0EFB88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AC8E6-FBEC-45F8-8A2D-936D04CF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1A156-EB90-4DB3-B5AC-0DD3E1AA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A9DA0-2F85-4F52-B55D-23BB4DE8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83A45-2283-4F5A-93D7-4976F231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8DDAD-3FC7-4757-AC60-1D3CF83E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BEBA3-295B-404C-9EF7-B224EEC3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3119-9958-433B-8719-EDAB46D5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78EED-12CF-4091-80E7-17E1AE06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12DC2-2794-4644-B3EB-7513E0D1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D7A21-44A6-4105-8605-50164654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9DFD6-8191-47D8-8094-1A872A2E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FFF00-0B50-4DB8-9D81-45F3C43D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CAF52-3BAD-48A1-9402-E628FE16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4AFF5-14EE-426F-8FD1-37FA8D6D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22D44-0073-4CF9-8A69-55B2713E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7DA93-342F-4613-9F03-E71D7E25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51489-6FE7-4FB5-9BFA-0D579125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A723-E171-4E37-8FB7-6D4E02B7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F4151-F57E-4E67-8A46-35DE28D9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DD7BE-4481-4878-BCD0-CF6A2BED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AB0F8-482A-4BFD-AC6A-D9D2BB91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B3676-982C-41C0-B38C-37AC8235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31D19-1FD9-4C67-8AFE-64336EB0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633F5-12EC-4F66-B775-D431C34B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14BF1-335B-493B-BF0F-18472A2D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D2EF1-FF29-4C86-A017-5FDD5C44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15C19-9500-48F0-9437-9B1791DC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BF0ED-2980-4186-8B26-160FF31D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3FB-0D5F-4AC7-8C2B-7D66D557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5F2B0-7B99-4902-8B71-BA0DB689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A3B1F-F0D2-40D3-A37E-E3CB9F2D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86A6D-B0B5-4013-9EF7-46C35DC3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1298B-BD8C-4FED-AAC8-7C8AD7A6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63866-ABE1-4FE9-8575-244118B0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B84A9-8B47-4BAC-86EC-C8F4C12B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1F26C-66A6-45B5-8770-685B2476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21A64-6910-4876-9782-8D02920D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4B5ED-1C31-4D58-9BD1-6AE4B197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B67AF-9E0B-4221-B488-B8E4F5B3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B79-4377-4D0B-87ED-95B97ADD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49BEF-B265-4E5A-BBC8-A3A7E97D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F97D8-2FDD-4067-A3AA-AB3224AC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4B2F5-7B1C-4A55-9227-3D353296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85136-23BF-414E-B69E-57A19785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85856-9870-4F05-A1F8-F54052D9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DBF4F-64E4-4C10-BB6D-ABFDB3A3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8AAB1-9507-4E6C-9693-AB63B0FF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6D674-B22E-49DF-8F5A-9D3BE9A7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2424C-4493-4ACB-9827-5E8782B1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66EE2-345F-418F-B22B-5D10C26C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5E86-4174-4DF0-B498-B2D2AB32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5AE5A-A121-45A4-B331-7B0875CB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113F9-7114-4EBA-B45C-B92F8009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4A4E0-3DC4-4D64-8E1C-B6678278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2450C-3BEE-4B43-8CBE-9A7DFB8C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770C8-916B-4BC2-B18E-F7AE2B3C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9274B-97F4-4EAF-864B-90E8329E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104F1-30E0-4348-8BD5-4E6A04F8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BB56F-6EBF-410F-A96D-753314D3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9BFE5-6768-4F04-B56B-09B5D908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FACC7-5E41-4259-8180-08FD3A8E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9BD2-5FFC-4F78-BF78-2916679EB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89DC-895B-47C8-8C49-2A72C8CE248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3976-C9EF-41F8-A2C3-E599267F40E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63DB-373D-4E09-A581-3F8DBD5DC80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0756-3FFF-463A-93E9-4868A7F2FC3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661E-5347-4343-8310-4FFE300FDC0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A91A-99C9-45FC-A992-6C5F97AA1791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E35B-0135-43C8-9FA5-9D63642C861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FA29-B8FC-4478-8D3C-62199E6C01D3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2133-48A5-431E-9040-BCA9815A3A1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6C0B-0195-4543-B486-8AABFFEDDAB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798C-71C4-4E5F-9445-CD6A6D99827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F63F-593F-4240-B4B4-01F1844DDA2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Title 1" descr=""/>
          <p:cNvPicPr/>
          <p:nvPr/>
        </p:nvPicPr>
        <p:blipFill>
          <a:blip r:embed="rId1"/>
          <a:stretch/>
        </p:blipFill>
        <p:spPr>
          <a:xfrm>
            <a:off x="1749600" y="152280"/>
            <a:ext cx="5797440" cy="11955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 txBox="1"/>
          <p:nvPr/>
        </p:nvSpPr>
        <p:spPr>
          <a:xfrm>
            <a:off x="-360" y="2085480"/>
            <a:ext cx="9124920" cy="3552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magine a Carbo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t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as the size of a ping pong ball (~3cm diameter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. Would a human sk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be bigger or smalle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. How big or small would it be?  (be specific!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3. Expla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wh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you think thi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63360" y="-493560"/>
            <a:ext cx="120024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6"/>
          <p:cNvSpPr/>
          <p:nvPr/>
        </p:nvSpPr>
        <p:spPr>
          <a:xfrm>
            <a:off x="216000" y="-341280"/>
            <a:ext cx="11998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8"/>
          <p:cNvSpPr/>
          <p:nvPr/>
        </p:nvSpPr>
        <p:spPr>
          <a:xfrm>
            <a:off x="368280" y="-189000"/>
            <a:ext cx="12002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ubtitle 2"/>
          <p:cNvSpPr/>
          <p:nvPr/>
        </p:nvSpPr>
        <p:spPr>
          <a:xfrm>
            <a:off x="-19080" y="141444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1173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Size and Scale: Atom vs.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6"/>
          <p:cNvSpPr/>
          <p:nvPr/>
        </p:nvSpPr>
        <p:spPr>
          <a:xfrm>
            <a:off x="63360" y="-500040"/>
            <a:ext cx="14670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6"/>
          <p:cNvSpPr/>
          <p:nvPr/>
        </p:nvSpPr>
        <p:spPr>
          <a:xfrm>
            <a:off x="63360" y="-546120"/>
            <a:ext cx="11145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9" descr=""/>
          <p:cNvPicPr/>
          <p:nvPr/>
        </p:nvPicPr>
        <p:blipFill>
          <a:blip r:embed="rId2"/>
          <a:stretch/>
        </p:blipFill>
        <p:spPr>
          <a:xfrm>
            <a:off x="6934320" y="0"/>
            <a:ext cx="2216160" cy="21286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2" descr=""/>
          <p:cNvPicPr/>
          <p:nvPr/>
        </p:nvPicPr>
        <p:blipFill>
          <a:blip r:embed="rId3"/>
          <a:stretch/>
        </p:blipFill>
        <p:spPr>
          <a:xfrm>
            <a:off x="6248520" y="4746600"/>
            <a:ext cx="2892240" cy="21114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3" descr=""/>
          <p:cNvPicPr/>
          <p:nvPr/>
        </p:nvPicPr>
        <p:blipFill>
          <a:blip r:embed="rId4"/>
          <a:stretch/>
        </p:blipFill>
        <p:spPr>
          <a:xfrm>
            <a:off x="0" y="0"/>
            <a:ext cx="1317600" cy="14479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4" descr=""/>
          <p:cNvPicPr/>
          <p:nvPr/>
        </p:nvPicPr>
        <p:blipFill>
          <a:blip r:embed="rId5"/>
          <a:stretch/>
        </p:blipFill>
        <p:spPr>
          <a:xfrm>
            <a:off x="152280" y="5257800"/>
            <a:ext cx="2590920" cy="18511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6" descr=""/>
          <p:cNvPicPr/>
          <p:nvPr/>
        </p:nvPicPr>
        <p:blipFill>
          <a:blip r:embed="rId6"/>
          <a:stretch/>
        </p:blipFill>
        <p:spPr>
          <a:xfrm>
            <a:off x="2895480" y="5410080"/>
            <a:ext cx="2586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4"/>
          <p:cNvSpPr/>
          <p:nvPr/>
        </p:nvSpPr>
        <p:spPr>
          <a:xfrm>
            <a:off x="533520" y="380880"/>
            <a:ext cx="822960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tom vs. Cell (Size Comparis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s are (on average) abou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0,0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imes bigger than atom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if a Carbon atom were the size of a ping pong ball, a skin cell would be ab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 miles w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t’s the distance from here to the high scho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4"/>
          <p:cNvSpPr/>
          <p:nvPr/>
        </p:nvSpPr>
        <p:spPr>
          <a:xfrm>
            <a:off x="533520" y="380880"/>
            <a:ext cx="82296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tom vs. Cell (Size Comparis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uman body 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40 trillion cell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,000,000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7x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om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,000,000,000,000,000,000,000,00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5:27:14Z</dcterms:created>
  <dc:creator>ELemke</dc:creator>
  <dc:description/>
  <dc:language>en-US</dc:language>
  <cp:lastModifiedBy>User</cp:lastModifiedBy>
  <dcterms:modified xsi:type="dcterms:W3CDTF">2013-10-08T13:14:21Z</dcterms:modified>
  <cp:revision>42</cp:revision>
  <dc:subject/>
  <dc:title>Slide 1</dc:title>
</cp:coreProperties>
</file>